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7D4-C05A-4320-9C46-AA3C21FB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35B-4F02-4C6D-A145-4D9B0210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48A-0BBD-49E3-B9C9-FA877645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821-1AD0-4567-8442-3E97BFEB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1EF-48C1-4CBD-AA17-5241DC7A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4E9-9C26-4506-850C-60BDB34B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789-4F5F-42B0-A154-7640A037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344-DAFE-4589-9DB1-0A607483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D07-AF65-4D3F-A41F-FC3A0180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2C7-137B-4E18-BC67-6287CBC4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BAD-DF8E-498F-8D6A-CAC54CAE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3B2-F4D9-440A-A57F-DBD73E14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5EF8-39ED-409E-A0C0-E4093C4B5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grace of the Lord Jesus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communion of the Holy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 with you all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4:49Z</dcterms:created>
  <dc:creator>Anon Anon</dc:creator>
  <dc:description/>
  <dc:language>en-US</dc:language>
  <cp:lastModifiedBy>Anon Anon</cp:lastModifiedBy>
  <dcterms:modified xsi:type="dcterms:W3CDTF">2005-08-09T05:21:46Z</dcterms:modified>
  <cp:revision>8</cp:revision>
  <dc:subject/>
  <dc:title>PowerPoint Presentation</dc:title>
</cp:coreProperties>
</file>